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A77-7B39-4685-9D74-1232028B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545-67F9-48FF-A7C9-4000F0F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47F-3522-4CD7-A701-4794C875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D08-35C3-467B-A6D6-9DCA4E44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53F4-4109-4559-83D7-85204DF6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2F03-2B08-4D11-8529-3D839FA7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71DA-8B24-48FB-B92B-072E6DA1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29E7-EE72-4744-863A-9133C4C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24FF-F911-432F-BCCA-5B9C5A87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11B8-606B-48D4-96D7-A151CA04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0CD-8B9D-4B30-B38A-9036781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27A-7F3F-4926-AA80-18100CB5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F7D8-DB62-4D68-8E1C-11FD6B07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8E62-5249-446F-B4FF-82BFC37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CD57-9070-40DF-98E1-8D565368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22F-FEC4-434A-B628-389F789E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0BFD-A1DA-4AE4-9259-72C6E0C1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7F3-165F-4FF6-8EF9-8190F19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575-88C1-4F48-9502-E31C7183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B0B-23B9-40F7-9652-A8D9EACB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E8D-346A-425C-B468-0F4070B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B0-2899-434E-8218-099D9FAC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F70-76DC-4B59-86F6-BDC3FBA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66F-EFD6-4FE8-A260-6C301E64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540C-6520-428B-872D-4A18BC8BAA1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7607-8BBD-423D-B92C-CCE7662C020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../../user/My%20Documents/Teaching%20wrokshop%20research%20Al%20Bayan/Al%20Bayan%20research%20Gantt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Learning from other people’s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b6b75"/>
                </a:solidFill>
                <a:latin typeface="Arial"/>
              </a:rPr>
              <a:t>Data collection: desk research for secondary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ata collection: surveys/interviews for primar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Design questionn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Categoriz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Analyzing/interpreting data (E.g. SPSS program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6b75"/>
                </a:solidFill>
                <a:latin typeface="Arial"/>
              </a:rPr>
              <a:t>Findings (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Discussion (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ding a research paper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fferent broad way to classify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vs. Ba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of the research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al review of the  research pap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types of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types of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ome 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 of qualitative and quantit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fferent way to classify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 Ethnograph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researches 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vestigate a new knowledg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Replication research: validate (maybe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scale) or in different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aptation research: validate or invalidate pre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od vs. Bad research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re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 knowledg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just 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tle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erature review (Record keeping)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ology 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ings (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 (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the research paper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(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 (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bliography (1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              Structure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                  the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Topic/iss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Research question/statements/assumption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Conceptual frame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cad1"/>
                </a:solidFill>
                <a:latin typeface="Arial"/>
              </a:rPr>
              <a:t>Method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Title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(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(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Literature review (Record keeping)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cad1"/>
                </a:solidFill>
                <a:latin typeface="Arial"/>
              </a:rPr>
              <a:t>Methodology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1:49Z</dcterms:modified>
  <cp:revision>11</cp:revision>
  <dc:subject/>
  <dc:title>Course: Fundamentals of Research</dc:title>
</cp:coreProperties>
</file>